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15.wmf" ContentType="image/x-wmf"/>
  <Override PartName="/ppt/media/image4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23.jpeg" ContentType="image/jpe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4BA-34F6-4C92-AACF-C13AC87C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181-EB69-4B78-A8CA-60185536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AD2-27C7-4B8D-B913-B3F9BEB7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278-2A5C-455D-A3F2-501E7D8B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C77-13B0-4EB2-9E40-56C5197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83A-A748-4034-8513-78415D2E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0C4-F8D7-40A3-80AC-DC831341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B41-F34C-4852-BAFB-F563EECF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F0C-0CB3-43B7-8908-6E03941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62E-E691-4014-92A2-9FA40E5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9E4-6D30-4BE6-8959-A5FF8E7F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15E-7012-49C6-B90E-C06A9977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E940-950F-40CB-8580-E787E2D8D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28960" y="685800"/>
            <a:ext cx="61722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KidTYPEPaint"/>
              </a:rPr>
              <a:t>Dear S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4343040"/>
            <a:ext cx="57150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tters from St Jude                                                  Kindergarten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6553080"/>
            <a:ext cx="4191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sisted by Art &amp; Technology Students Grades 5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5558040" cy="7277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9000" y="2438280"/>
            <a:ext cx="400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Dear Sant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This year for Christmas I want Mouse Trap and Action Cruiser. I was wondering why do you have a workshop?  Have a good time delivering presents.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      I live with a happy family in South Bend,  Indiana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Your Pal,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Cameron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3520" y="678168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43680" cy="8229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1828800"/>
            <a:ext cx="4572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ar Santa, I would like the dolls from high school musical, and a cooking mama, a newborn , and a techno please. I promise if you give me these things I will give you very yummy cookies and chocolate milk : 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ve you Santa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rooklyn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943600" cy="8229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09800" y="1695600"/>
            <a:ext cx="4514760" cy="4686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ar Sa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I want a Hot Wheels fire ball.   I  also want  Roborapt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n you also get my  Wall/e . My sister wants ponyvi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rom,  Co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3543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5508720" cy="7246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1752480"/>
            <a:ext cx="468648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onathan’s Christma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ear San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  am 6 and I would like a sour patch kids candy.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 would also like Hot wheels fire ball, and a Nerf  laser gun.  The incredible Hulk smash hands it also comes with a mask.  A Batman  Transformer car and it also comes with Batman’s motorcycle and the Joker. I would also like a cubies rug. 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 Nerf N Strike Long Shot gun.  A electronic dog that does everything I sa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6934320"/>
            <a:ext cx="2995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5557680" cy="7277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2743200"/>
            <a:ext cx="402912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r San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I want a baby doll nursery set, A high chair, dolls and a stroller and                       2  nugglek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From H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I live in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Bend In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6680" y="7391520"/>
            <a:ext cx="1171800" cy="885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4952880"/>
            <a:ext cx="10065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349960" cy="765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52480" y="3181320"/>
            <a:ext cx="314352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C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!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s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z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z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m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5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v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h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w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,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J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c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r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w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d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k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o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g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a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w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P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c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s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w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p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k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p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w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k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w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P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k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F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z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z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349960" cy="765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1160" y="2990880"/>
            <a:ext cx="354312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Dear Sa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Showcard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Showcard Gothic"/>
              </a:rPr>
              <a:t> </a:t>
            </a:r>
            <a:r>
              <a:rPr b="0" lang="en-US" sz="1600" spc="-1" strike="noStrike">
                <a:solidFill>
                  <a:srgbClr val="0fb960"/>
                </a:solidFill>
                <a:latin typeface="Showcard Gothic"/>
              </a:rPr>
              <a:t>My name is Jacob I live  in Indiana and This year for Christmas I   would lik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b960"/>
                </a:solidFill>
                <a:latin typeface="Showcard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Bioni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Ag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Kir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Star w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Showcard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Showcard Gothic"/>
              </a:rPr>
              <a:t>                                    </a:t>
            </a:r>
            <a:r>
              <a:rPr b="0" lang="en-US" sz="1800" spc="-1" strike="noStrike">
                <a:solidFill>
                  <a:srgbClr val="0fb960"/>
                </a:solidFill>
                <a:latin typeface="Showcard Gothic"/>
              </a:rPr>
              <a:t>Your p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b960"/>
                </a:solidFill>
                <a:latin typeface="Showcard Gothic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fb960"/>
                </a:solidFill>
                <a:latin typeface="Showcard Gothic"/>
              </a:rPr>
              <a:t>Jac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5508720" cy="7247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28880" y="2324160"/>
            <a:ext cx="4457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irst-Grader"/>
              </a:rPr>
              <a:t>Dear San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irst-Grader"/>
              </a:rPr>
              <a:t>I have been a good boy. How are the reindeer. This is what I w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irst-Grader"/>
              </a:rPr>
              <a:t>Rocket , air land and sea play 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irst-Grader"/>
              </a:rPr>
              <a:t>From 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irst-Grader"/>
              </a:rPr>
              <a:t>South bend, IN Kings way D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649680" y="5981760"/>
            <a:ext cx="167796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Xmas 9" descr=""/>
          <p:cNvPicPr/>
          <p:nvPr/>
        </p:nvPicPr>
        <p:blipFill>
          <a:blip r:embed="rId3"/>
          <a:stretch/>
        </p:blipFill>
        <p:spPr>
          <a:xfrm>
            <a:off x="1257480" y="6095880"/>
            <a:ext cx="1176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5543640" cy="7548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38200" y="2009880"/>
            <a:ext cx="389592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nap ITC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Snap ITC"/>
              </a:rPr>
              <a:t>Dear Santa Clau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Snap ITC"/>
              </a:rPr>
              <a:t>  </a:t>
            </a:r>
            <a:r>
              <a:rPr b="0" lang="en-US" sz="1200" spc="-1" strike="noStrike">
                <a:solidFill>
                  <a:srgbClr val="0000ff"/>
                </a:solidFill>
                <a:latin typeface="Snap ITC"/>
              </a:rPr>
              <a:t>My name is Zachary, My sisters name is  Allison. I am 6. I love you Santa Cla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Snap ITC"/>
              </a:rPr>
              <a:t>                      </a:t>
            </a:r>
            <a:r>
              <a:rPr b="0" lang="en-US" sz="1200" spc="-1" strike="noStrike">
                <a:solidFill>
                  <a:srgbClr val="ff6600"/>
                </a:solidFill>
                <a:latin typeface="Snap ITC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Snap ITC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Snap ITC"/>
              </a:rPr>
              <a:t>Rodoraptor</a:t>
            </a:r>
            <a:r>
              <a:rPr b="0" lang="en-US" sz="1200" spc="-1" strike="noStrike">
                <a:solidFill>
                  <a:srgbClr val="000000"/>
                </a:solidFill>
                <a:latin typeface="Snap ITC"/>
              </a:rPr>
              <a:t>,</a:t>
            </a:r>
            <a:r>
              <a:rPr b="0" lang="en-US" sz="1200" spc="-1" strike="noStrike">
                <a:solidFill>
                  <a:srgbClr val="ffcc00"/>
                </a:solidFill>
                <a:latin typeface="Snap ITC"/>
              </a:rPr>
              <a:t>Ben 10 omnitrix ELD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47920" y="3505320"/>
            <a:ext cx="3705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0280" y="380880"/>
            <a:ext cx="6402600" cy="8382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2209680"/>
            <a:ext cx="38862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571840"/>
            <a:ext cx="394344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Dear S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My name is Cade. I am 6 years old. I live in South Bend, Indiana. I would like a Jeff hardy action figure, Star Wars the clone wars the Video game for the Wii, a blade Star Space Ship, a remote control Walle, and Guitar Hero 3 Legends of Rock for Play statio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From, Cade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943600" cy="8763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2220840"/>
            <a:ext cx="4114800" cy="5270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Goudy Stout"/>
              </a:rPr>
              <a:t>Dear san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Goudy Stout"/>
              </a:rPr>
              <a:t>For Christmas I would like talking nursery and leap frog! I have been really good this year. Thank you!!! Can you please bring what I want for christmas this year. I live in  gRanger IN. my favorite color is green!!! I am 5 years 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Goudy Stout"/>
              </a:rPr>
              <a:t>Lo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Goudy Stout"/>
              </a:rPr>
              <a:t>Kiern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4038120" y="4952880"/>
            <a:ext cx="97308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943600" cy="8229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2895480"/>
            <a:ext cx="4343400" cy="468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971800"/>
            <a:ext cx="44197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lt w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pcake 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cking 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toy wall-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uffed z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lives in South B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43000" y="1943280"/>
            <a:ext cx="5105520" cy="9903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nevieve's Christmas list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4686480" y="3086280"/>
            <a:ext cx="914400" cy="1143000"/>
          </a:xfrm>
          <a:custGeom>
            <a:avLst/>
            <a:gdLst>
              <a:gd name="textAreaLeft" fmla="*/ 214920 w 914400"/>
              <a:gd name="textAreaRight" fmla="*/ 699120 w 914400"/>
              <a:gd name="textAreaTop" fmla="*/ 134280 h 1143000"/>
              <a:gd name="textAreaBottom" fmla="*/ 717120 h 1143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7010280"/>
            <a:ext cx="17143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380880"/>
            <a:ext cx="4114800" cy="8766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ear Santa,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95280"/>
            <a:ext cx="472428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 Christmas I would like a jeep, Idog Dance, a prom or graduation doll,  all High School Musical dolls, and a Disney Princess 7-d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cerel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lly Burnham South Bend, Indi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flipH="1">
            <a:off x="380520" y="7162920"/>
            <a:ext cx="5953320" cy="164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167616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17240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600200" y="0"/>
            <a:ext cx="77724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r San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nt transformers, star wars, more transformers, 4 transfor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Jake. My phone number is 233-25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3020760" cy="327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Free Movies Wallpaper : Transformers - Bumblebee"/>
          <p:cNvPicPr/>
          <p:nvPr/>
        </p:nvPicPr>
        <p:blipFill>
          <a:blip r:embed="rId2"/>
          <a:stretch/>
        </p:blipFill>
        <p:spPr>
          <a:xfrm>
            <a:off x="3505320" y="64008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86200" y="3657600"/>
            <a:ext cx="24098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6276960" cy="8498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57480" y="1981080"/>
            <a:ext cx="3714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Snap ITC"/>
              </a:rPr>
              <a:t> 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Dear San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My name is Anna and this is my wish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1. Disney Prin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2.Hannah Montana doll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I have a sister named Isabella. I also have a dog named Griffin and a cat named Zoey. My sister has a cat named Ginger. She always runs away. I would also like to ask you what your reindeer look like. Can you send me a picture of one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that I know what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look like</a:t>
            </a:r>
            <a:r>
              <a:rPr b="1" lang="en-US" sz="1800" spc="-1" strike="noStrike">
                <a:solidFill>
                  <a:srgbClr val="ff66cc"/>
                </a:solidFill>
                <a:latin typeface="Adolescen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38480" y="5867280"/>
            <a:ext cx="19051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5425920" cy="7602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79440" y="1562040"/>
            <a:ext cx="371484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Dear San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My name is All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I live in South Bend,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I would like a High School Musical Doll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Thanks a l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Lo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Alli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5508360" cy="7737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12680" y="2117880"/>
            <a:ext cx="4629240" cy="554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Dear San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    </a:t>
            </a: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My name is J.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and I live in South B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I would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072a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A Pok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072a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An Indiana Jones 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072a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Hot Whe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9:06:14Z</dcterms:created>
  <dc:creator>Patrick Mooney</dc:creator>
  <dc:description/>
  <dc:language>en-US</dc:language>
  <cp:lastModifiedBy>Patrick Mooney</cp:lastModifiedBy>
  <dcterms:modified xsi:type="dcterms:W3CDTF">2008-12-15T13:27:01Z</dcterms:modified>
  <cp:revision>26</cp:revision>
  <dc:subject/>
  <dc:title>Slide 1</dc:title>
</cp:coreProperties>
</file>